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D042-9DCB-467B-B6E3-0725B0BDF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3341-1498-4861-A68C-62FBAD92B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EFD-3129-4648-A055-C0C34EED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6471-B286-4076-AF96-A702A381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4F1-D925-4DD8-A2CF-986D9C74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137-5B41-49D1-8EEF-1C086272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9EB-D3B6-49C3-8C9B-98185A08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1F3-DF31-4C24-A270-C40EAEF5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7BC-7053-4DDF-AD0A-EA492D4B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23E-8A65-4DF1-B549-60DF78C4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082-67D1-4576-92E0-603EA1DC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172-6A6E-4BE9-A200-300F9577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36E7-470E-4285-BE89-78FD7863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817-7632-4F08-8658-2F3073B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413D-147E-41A6-91CD-155FA196E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Ocean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1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6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70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7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79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4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17:53Z</dcterms:modified>
  <cp:revision>118</cp:revision>
  <dc:subject/>
  <dc:title>Museum of World Stuff</dc:title>
</cp:coreProperties>
</file>